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98D2-019D-4939-88B5-16FC8D6A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F4F9-7643-46FB-89E8-0D0269D0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BC5-E2CD-4992-802B-B66AFB5A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AA32-83E5-4498-AB26-E63652E0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C1EF-36E7-4160-A52E-87FE45C1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7116-AFD9-4AB3-AA38-76A83CFE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DD5A-68A4-41BB-966E-80576CC3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6768-8181-402E-AAD3-642CBBA2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1AAE-F4D9-4388-BC8B-A832C1EB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2755-26C1-4790-B1D5-5EE982DD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0B7D-4438-4B8D-8046-FB40D94C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4336-7EE9-466A-98DA-6B440A87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BE82-79BB-4BE4-9AA3-FDD99F16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67A8-3127-49C8-9B4B-962E96A8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1360-3433-4F87-9EF4-83314D42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752E-2E8F-458A-80C0-5EE6CE37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0B12-576C-442C-9B2A-DE3A28E8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2337-D9E7-409C-ADD2-3951A85E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90D7-B0F1-44F2-A693-DE23EF66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9C78-0269-497A-A8FD-E6DC1AFB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CD94-DC92-4BC9-9917-39A91E25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5139-43DD-4F0B-AD0E-D88641D3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2609-6A70-44A2-93D8-6A3D57A6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C08A-66D3-4BE8-A3B1-06730874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19CD-0F71-4FB7-8775-6E63DED88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15C4-9F11-4A8B-8551-D191CCFA4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how me what you know…</a:t>
            </a:r>
            <a:br>
              <a:rPr sz="4400"/>
            </a:b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Round answers to the nearest hundredth if necessary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price: $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rice: $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age of change:_____  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 The fountain in the garden had 5.2” of water last week.  Today it had 3.6”.  What is the percentage of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hapter 10: Percents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 Students will calculate Simple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Objective:  Students will calculate Simple Interest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ocabulary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es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unt earned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id for the 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mon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ncip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unt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ey borrow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deposited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Objective:  Students will calculate Simple Interest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Vocabulary Continued: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e Interes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earned or paid on the princ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ual Interest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ra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principal that is paid year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of interest and principal amount d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Objective:  Students will calculate Simple Interest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1800"/>
            </a:b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Simple Interest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Interes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product of the principa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annual interest rat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itten as a decimal and the tim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e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, remember this formul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= P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Interest = principal x rate x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Objective:  Students will calculate Simple Interest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Let’s try one together: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$500 deposit earns 6% simple interest for 4 year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use the formul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= P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principal or beginning amount (5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= rate (change 6% to .06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= time in years (4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= (500) (.06)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= $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Objective:  Students will calculate Simple Interest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ry some more: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) You deposit $1000 into an account that earns 3% simple annual interest. What will the account balance be after 10 yea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) Your parents lend you $300 so you can buy Wii. They charge you 5% simple annual interest. What will be the total amount you owe your parents in 1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Homework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Interest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12:31:38Z</dcterms:created>
  <dc:creator>ccps</dc:creator>
  <dc:description/>
  <dc:language>en-US</dc:language>
  <cp:lastModifiedBy>deanne elizabeth mcgrath</cp:lastModifiedBy>
  <dcterms:modified xsi:type="dcterms:W3CDTF">2011-03-24T03:06:07Z</dcterms:modified>
  <cp:revision>5</cp:revision>
  <dc:subject/>
  <dc:title>Chapter 10: Percents</dc:title>
</cp:coreProperties>
</file>